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191E1-E327-4B4B-9CE7-5BE65738D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149FB-15E6-4B7D-BBB2-8C8A8BB5A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C2EC-9F3D-4A96-AF4C-D84D5B6E6F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EADD9-8810-4B87-83E5-7E3F29EA4D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C7023-53A7-42B8-B11A-E038D2C9C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9AFB6-A5E9-4213-A7A8-576F8B314D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6FD542-0621-4896-A4CF-7333160BF9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BFF354-52AB-466C-B8CD-B2CEC51B9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1BCB70-8F83-411C-99E8-6F4FEE7AEE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C0122C-F196-4F61-A477-1455356C7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D98CE-8357-4502-9B72-46930965CE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3ACE-C50B-4033-B526-D072AF129A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F21274-60AE-4DFE-A563-3617E5626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7E6255-EC5F-4DDD-8BE1-8F69C81B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547518-041D-46AC-831D-92BD92F7F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75591-88FE-4C5C-930D-28274874CD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4BD741-CEF1-4601-8D8E-A11B1DE8E9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ACBB6-CC72-428E-8927-23FA9205F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6027-4C6F-43A2-B146-DCD6D553C5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3C32C-558E-4E4D-81B6-A32E5D23C1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23F80-8356-4BF0-8F5B-8CD2FF789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35057-F0C7-452C-B4C7-AC3ED85EE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B969-9D94-44AB-851C-A01C5278A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0B2D7-B12D-48E9-9477-E030E6ECD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C51D47-0869-49A2-994F-91313BEBC32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20CD7-690C-4321-A476-649D1A4E0A2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3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Transmission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aveleng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occupied by one cyc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ance between two points of corresponding phase in two consecutive cyc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ing signal velocity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v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= v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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 = v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 = 3*1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8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-1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peed of light in free spac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omain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usually made up of many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onents are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be shown (Fourier analysis) that any signal is made up of component sine wa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plot frequency domai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80880" y="-380880"/>
            <a:ext cx="82044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ition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on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4331"/>
          <a:stretch/>
        </p:blipFill>
        <p:spPr>
          <a:xfrm>
            <a:off x="4114800" y="47520"/>
            <a:ext cx="4952880" cy="67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0880" y="22824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omain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5592"/>
          <a:stretch/>
        </p:blipFill>
        <p:spPr>
          <a:xfrm>
            <a:off x="3886200" y="200160"/>
            <a:ext cx="5114880" cy="642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ectrum &amp;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of frequencies contained i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solut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dth of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ffectiv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ften just 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rrow band of frequencies containing most of the ener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onent of zero 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 with DC Compon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8170"/>
          <a:stretch/>
        </p:blipFill>
        <p:spPr>
          <a:xfrm>
            <a:off x="2057400" y="1676520"/>
            <a:ext cx="4933800" cy="518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Rate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 transmission system has a limited band of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limits the data rate that can be car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and Digital Data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that convey mean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lectric or electromagnetic representation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of data by propagation and processing of signa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values within som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ound,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val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xt, integ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oustic Spectrum (Analog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7568"/>
          <a:stretch/>
        </p:blipFill>
        <p:spPr>
          <a:xfrm>
            <a:off x="762120" y="1655640"/>
            <a:ext cx="7467480" cy="506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wisted pair, optical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guid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air, water, vacuu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ans by which data are propag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ly var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rious medi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re, fiber optic, sp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bandwidth 100Hz to 7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phone bandwidth 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deo bandwidth 4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two DC compon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use digital signals for digital data and analog signals for analo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analog signal to carry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use digital signal to carry analog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act Disc au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55799"/>
          <a:stretch/>
        </p:blipFill>
        <p:spPr>
          <a:xfrm>
            <a:off x="457200" y="1838160"/>
            <a:ext cx="8153280" cy="441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Signals Carrying Analog and Digital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rcRect l="0" t="47685" r="0" b="8262"/>
          <a:stretch/>
        </p:blipFill>
        <p:spPr>
          <a:xfrm>
            <a:off x="457200" y="1778040"/>
            <a:ext cx="8153280" cy="439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 transmitted without regard to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ed over dista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amplifiers to boost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amplifies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rned with cont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ity endangered by noise, attenuation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peater receives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racts bit patter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overco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ise is not amplif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 of Digital Transmiss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178840" cy="431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techn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cost LSI/VLSI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distances over lower quality li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pacity util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bandwidth links econom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degree of multiplexing easier with digital techniqu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 &amp; Priva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1160" indent="-2811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-2343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treat analog and digital data simi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091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Impair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received may differ from signal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- degradation of signal qua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- bit erro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d b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tenuation and attenuation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distor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tenu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3344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trength falls off with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pends on medi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d signal strength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enough to be det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sufficiently higher than noise to be received withou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tenuation is an increasing function of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ay Distor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ly in guided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pagation velocity varies with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intermediate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-to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link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2 devices shar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-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than two devices share th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al signals inserted between transmitter and rece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rm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rmal agitation of electr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formly 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te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s that are the sum and difference of original frequencies sharing a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is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osstal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ignal from one line is picked up by ano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ul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rregular pulses or spik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External electromagnetic interfer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du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nnel Capac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data can be communi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cycles per second of Hert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trained by transmitter an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ology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dir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vis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f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ither direction, but only one way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police radi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directions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teleph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, Spectrum and Bandwidt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domain concep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ous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arious in a smooth way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intains a constant level then changes to another constant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eriodic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ttern not repeated over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tinuous &amp; Discrete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10534"/>
          <a:stretch/>
        </p:blipFill>
        <p:spPr>
          <a:xfrm>
            <a:off x="838080" y="1676520"/>
            <a:ext cx="7162920" cy="510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iodic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9662"/>
          <a:stretch/>
        </p:blipFill>
        <p:spPr>
          <a:xfrm>
            <a:off x="4324320" y="457200"/>
            <a:ext cx="4819680" cy="614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ne Wav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ak Amplitude (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strength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(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change of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ertz (Hz) or cycle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iod = time for one repetition (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 = 1/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ative position i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arying Sine Wa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7140"/>
          <a:stretch/>
        </p:blipFill>
        <p:spPr>
          <a:xfrm>
            <a:off x="1066680" y="1676520"/>
            <a:ext cx="6743880" cy="49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3T12:49:47Z</dcterms:created>
  <dc:creator>Adrian &amp; Wendy</dc:creator>
  <dc:description/>
  <dc:language>en-US</dc:language>
  <cp:lastModifiedBy>Adrian J Pullin</cp:lastModifiedBy>
  <dcterms:modified xsi:type="dcterms:W3CDTF">1999-10-13T14:41:58Z</dcterms:modified>
  <cp:revision>35</cp:revision>
  <dc:subject/>
  <dc:title>William Stallings Data and Computer Communications</dc:title>
</cp:coreProperties>
</file>